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D8BD-5CE9-4C10-B962-DA8E28CDC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8F45-0C0C-4501-91C3-DAD174838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C14B-FADD-4AB8-9FF7-BEB8F0233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160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712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08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160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712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CAD4-E7B0-4E1A-8008-A52FC2761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F7D01-C04E-405E-95A5-71527D88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693B0-D81B-4C8A-89E5-1A586BD5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A3BC1-3614-452E-B4E9-EBC2F5A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12C50-F4F6-4DA6-80FF-9904286C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F593E-B5E8-4B41-B088-EB0984D6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6553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61DEA-C8DD-480B-A77B-0927239C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6F140-70F3-42B4-8C6C-47383F1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CF64-73B3-4090-9ECA-EC63317EB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D7E4D-A7B6-4129-A127-8B0C2C9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20413-BE43-4DB3-8141-A67A5B6C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020F7-FA42-4B66-9FE9-B416F53C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E76BE-2D1D-47AC-9292-17496041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160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712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608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160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712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0CA0C-609A-4858-BE9C-27C0E6E4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1D9A-F133-4BEB-946C-9443E51E4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F9EB-6481-48CB-81A4-7D9801878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4E48-528B-43AB-8C15-01BDAA480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6553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0985-D307-459A-99A9-42D85830F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3154-0A92-41BB-89F9-53DB34D16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3BD3-6F6A-4C63-BD60-B750AA009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FE88-6AEC-49DF-8A65-B9B4D109C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502240" y="6629040"/>
            <a:ext cx="298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Jacques Bouchez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4520" y="166680"/>
            <a:ext cx="745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-330120" y="-51444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B74C-239E-4092-9E1B-169574616B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21970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3120" y="26416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25680" y="276876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54560" y="283212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857680"/>
            <a:ext cx="32040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9000" y="285768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78136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42280" y="26416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240" y="157464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65360" y="162576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79064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84600" y="15494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5746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65096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31200" y="181620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0800" y="22352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45240" y="1346040"/>
            <a:ext cx="6654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adioactive Beam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Nuclear and Neutrino Phy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Les Arcs 17-22 Mars 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55560" y="3495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0B51-344A-4B57-A33D-64CF4A5633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5360" y="239760"/>
            <a:ext cx="8804520" cy="5921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57720" y="5776920"/>
            <a:ext cx="26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RE : 250 MeV NEUTRI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20CE-9051-46F1-A100-677E075D10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25636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ar detector in second ph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7852" t="10234" r="10191" b="12423"/>
          <a:stretch/>
        </p:blipFill>
        <p:spPr>
          <a:xfrm>
            <a:off x="1951200" y="1341360"/>
            <a:ext cx="7192800" cy="465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900000" y="3141720"/>
          <a:ext cx="95580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141720"/>
                    <a:ext cx="9558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52360" y="21337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Phase-I: Super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9800" y="256536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22.5kt (50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5600" y="76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ＭＳ Ｐゴシック"/>
              </a:rPr>
              <a:t>Phase-II: 1,000 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6240" y="25560"/>
            <a:ext cx="59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mit to the size of large underground Water Ch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ctors will be given by the difficulties of excav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x width is about 50-60 meters.=&gt; increase high&amp;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CFD8-D714-41AB-86B4-A9AE7D823F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e Background Rej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6251" b="0"/>
          <a:stretch/>
        </p:blipFill>
        <p:spPr>
          <a:xfrm>
            <a:off x="141120" y="1504800"/>
            <a:ext cx="4219920" cy="459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6159" b="0"/>
          <a:stretch/>
        </p:blipFill>
        <p:spPr>
          <a:xfrm>
            <a:off x="4572000" y="1501920"/>
            <a:ext cx="4219560" cy="4593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15920" y="950760"/>
            <a:ext cx="663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/mu separation directly related to granularity of cove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mit is around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u decay in flight)  SKII coverage OKOK,  less maybe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AA03-5602-45BE-95ED-9A471526EF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TA B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6440" y="1033560"/>
            <a:ext cx="659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w idea by P. Zucchel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e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++, store, accelerate (100 GeV/u)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1920" y="2362320"/>
            <a:ext cx="33962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=3.5078 MeV T/2  = 0.8067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e anti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am a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74240" y="37368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441440" y="4095720"/>
                <a:ext cx="35481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259240" y="440676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am a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720" y="4876920"/>
            <a:ext cx="823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cillation signal: appearance of low energy mu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opposite charge neutrinos=&gt; no need for magnetic 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tle matter effects at these e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imes New Roman"/>
              </a:rPr>
              <a:t>water Cerenkov excellent for this too, same as for Superbe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seems feasible; but cost unknown so far.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ritical: duty cycle.                                                 A nice *** idea to be followed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330280"/>
            <a:ext cx="3368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+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552760"/>
            <a:ext cx="1522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30E9-402D-4E59-9646-5E9CA3738E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86080" y="171360"/>
            <a:ext cx="4003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a Bea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. Zucchel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46280" y="1398600"/>
          <a:ext cx="63990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398600"/>
                    <a:ext cx="63990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059600" y="5872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. Lindroos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D59A-C801-49E4-8167-81AB5EE24A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82720" y="28260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bination of beta beam with low energy super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785880"/>
            <a:ext cx="601524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que to CER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few 100 GeV accelerator (PS + SPS will do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rience in radioactive beams at ISOL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y unknowns: what is the duty factor that can be achieved? (needs &lt;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es CP and T violation tes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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)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(T)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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)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(T)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01800" y="43592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4680" y="43592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91400" y="438480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43718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4200" y="579276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Can this work????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0" r="6251" b="0"/>
          <a:stretch/>
        </p:blipFill>
        <p:spPr>
          <a:xfrm>
            <a:off x="141120" y="920880"/>
            <a:ext cx="2329200" cy="2533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0" t="0" r="6159" b="0"/>
          <a:stretch/>
        </p:blipFill>
        <p:spPr>
          <a:xfrm>
            <a:off x="128520" y="3470400"/>
            <a:ext cx="2363760" cy="257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D455-D61E-4A52-90CA-0AB2918801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4960" y="509760"/>
            <a:ext cx="8637840" cy="6013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83160" y="0"/>
            <a:ext cx="81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ation of Beta beam and superbeam is in the same ballpark of performance as neutrino factory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ewrare of systematics for low Energy neutrino events, though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2800" y="6310440"/>
            <a:ext cx="40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ff00"/>
                </a:solidFill>
                <a:latin typeface="Times New Roman"/>
              </a:rPr>
              <a:t>M.Mezzetto, CERN workshop NNN02, januar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1400" y="3122640"/>
            <a:ext cx="1425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</a:rPr>
              <a:t>lowest LMA.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8CAA-D869-40C7-A5F3-07C0045022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23640" y="16812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Times New Roman"/>
              </a:rPr>
              <a:t>OUTCOME OF THE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8040" y="866880"/>
            <a:ext cx="709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New ideas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for the beta beam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Pulsed ECR source for easier bunch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Ne18 production multilplied by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Simultaneous operation with Ne18 and He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Importance of low energy beta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160" y="3381480"/>
            <a:ext cx="69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Beta beams studies to be incorporated 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additional work package of EUR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Driver compatibility needs more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5378400"/>
            <a:ext cx="703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ff00"/>
                </a:solidFill>
                <a:latin typeface="Times New Roman"/>
              </a:rPr>
              <a:t>An interdisciplinary community 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ff00"/>
                </a:solidFill>
                <a:latin typeface="Times New Roman"/>
              </a:rPr>
              <a:t>emerged around the beta beam 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6604-B81A-49CA-BBEE-4A9C9C8C66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69880" y="4303800"/>
            <a:ext cx="6272280" cy="1798920"/>
          </a:xfrm>
          <a:prstGeom prst="rect">
            <a:avLst/>
          </a:prstGeom>
          <a:solidFill>
            <a:srgbClr val="ffff99"/>
          </a:soli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EUR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0720" y="976320"/>
            <a:ext cx="7347240" cy="2012040"/>
          </a:xfrm>
          <a:prstGeom prst="rect">
            <a:avLst/>
          </a:prstGeom>
          <a:solidFill>
            <a:srgbClr val="ffcccc"/>
          </a:soli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FACT (superbeam/neutrino fac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280" y="4938840"/>
            <a:ext cx="1567440" cy="52020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isol production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rare ions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0000" y="4414680"/>
            <a:ext cx="3547080" cy="307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+betabeam acceleration to 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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(CER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43320" y="1395360"/>
            <a:ext cx="24573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4 MW target s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04080" y="1382760"/>
            <a:ext cx="165708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collection,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43320" y="2513160"/>
            <a:ext cx="147960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Coo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19640" y="2360520"/>
            <a:ext cx="2457360" cy="52020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uon acceleration and stor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6600" y="2475000"/>
            <a:ext cx="2457360" cy="67284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+ proton/H</a:t>
            </a:r>
            <a:r>
              <a:rPr b="1" lang="fr-CH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 dri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clear-synergy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17800" y="3451320"/>
            <a:ext cx="1069200" cy="307080"/>
          </a:xfrm>
          <a:prstGeom prst="rect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A : B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473800" y="3631680"/>
            <a:ext cx="139680" cy="660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124080"/>
            <a:ext cx="533160" cy="3430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523880" y="3098880"/>
            <a:ext cx="12960" cy="130788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53920" y="3962520"/>
            <a:ext cx="1969920" cy="307080"/>
          </a:xfrm>
          <a:prstGeom prst="rect">
            <a:avLst/>
          </a:prstGeom>
          <a:solidFill>
            <a:srgbClr val="ccffcc"/>
          </a:solidFill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Large cavern and U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56480" y="3625920"/>
            <a:ext cx="533160" cy="342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600" y="1649520"/>
            <a:ext cx="24573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roton driver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86080" y="5400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Design studies (preliminary though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36760" y="4884840"/>
            <a:ext cx="9687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Driver  </a:t>
            </a:r>
            <a:r>
              <a:rPr b="1" lang="fr-CH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6120" y="5608800"/>
            <a:ext cx="142272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ost-accel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6360" y="5037120"/>
            <a:ext cx="146052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ass se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33240" y="5634000"/>
            <a:ext cx="116208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5 MW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87120" y="5672160"/>
            <a:ext cx="216180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Scientific instr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7A78-3BB8-4827-8E91-B993860D2B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36840" y="1434960"/>
            <a:ext cx="355320" cy="2032200"/>
          </a:xfrm>
          <a:prstGeom prst="rect">
            <a:avLst/>
          </a:prstGeom>
          <a:solidFill>
            <a:srgbClr val="ff66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640" y="3492360"/>
            <a:ext cx="80899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26360" y="1460520"/>
            <a:ext cx="355320" cy="2031840"/>
          </a:xfrm>
          <a:prstGeom prst="rect">
            <a:avLst/>
          </a:prstGeom>
          <a:solidFill>
            <a:srgbClr val="ff66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149640"/>
            <a:ext cx="3733920" cy="342720"/>
          </a:xfrm>
          <a:prstGeom prst="rect">
            <a:avLst/>
          </a:prstGeom>
          <a:solidFill>
            <a:srgbClr val="ffcc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88440" y="2550960"/>
            <a:ext cx="238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15 ms accelerated to 2.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for spallation sourc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33360" y="646200"/>
            <a:ext cx="1017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3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2.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for NuF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7600" y="3797280"/>
            <a:ext cx="481320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0920" y="384660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20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87320" y="672840"/>
            <a:ext cx="0" cy="28191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320" y="121752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15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280" y="1409760"/>
            <a:ext cx="507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280" y="3137040"/>
            <a:ext cx="507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8640" y="28558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3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7880" y="4532400"/>
            <a:ext cx="34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total power at 2.2 GeV 4 MW X 2 = 8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9040" y="3137040"/>
            <a:ext cx="88920" cy="355320"/>
          </a:xfrm>
          <a:prstGeom prst="rect">
            <a:avLst/>
          </a:prstGeom>
          <a:solidFill>
            <a:srgbClr val="99ff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82240" y="2624040"/>
            <a:ext cx="7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51240" y="2882880"/>
            <a:ext cx="6336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19B7-2041-47A1-A0D5-4C24C10DC9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9720" y="149400"/>
            <a:ext cx="49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0000"/>
                </a:solidFill>
                <a:latin typeface="Times New Roman"/>
              </a:rPr>
              <a:t>Aim of the worksho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6480" y="1184400"/>
            <a:ext cx="916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ff"/>
                </a:solidFill>
                <a:latin typeface="Times New Roman"/>
              </a:rPr>
              <a:t>Bring 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nuclear physicists (EURISOL community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neutrino physicists (interested in superbeams an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beta beams to study neutrino mix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and machine scient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ff"/>
                </a:solidFill>
                <a:latin typeface="Times New Roman"/>
              </a:rPr>
              <a:t>To determine the possible synergies between their respectiv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CH" sz="2400" spc="-1" strike="noStrike">
                <a:solidFill>
                  <a:srgbClr val="ff0000"/>
                </a:solidFill>
                <a:latin typeface="Times New Roman"/>
              </a:rPr>
              <a:t>and hopefully propose coordinated design studies to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C7C6-87CE-4D70-A6DF-C5BC0AF37A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82520" y="87480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roposal by A.Mü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4920" y="1941480"/>
            <a:ext cx="1041840" cy="3070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EURISO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080" y="3224160"/>
            <a:ext cx="979200" cy="307080"/>
          </a:xfrm>
          <a:prstGeom prst="rect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FAC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3320" y="1471680"/>
            <a:ext cx="81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a litle group of people goes to brussels to talk to Brussels ans ask if the B-typ synergy is acceptable or n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6080" y="2347920"/>
            <a:ext cx="2105640" cy="307080"/>
          </a:xfrm>
          <a:prstGeom prst="rect">
            <a:avLst/>
          </a:prstGeom>
          <a:noFill/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 normal working pa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2520" y="3645000"/>
            <a:ext cx="2369160" cy="307080"/>
          </a:xfrm>
          <a:prstGeom prst="rect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 normal working pack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8440" y="2716200"/>
            <a:ext cx="5766120" cy="307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+1 Looks into production and post-aceleration of beta beam up to g=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95920" y="4100400"/>
            <a:ext cx="5004360" cy="307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+1 looks into the synergy of SPL with the nuclear 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432D-EC40-4E46-A593-FE73D7248B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beam &amp;  Beta Beam  cost estimates (NUFACT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8600" y="1371600"/>
          <a:ext cx="86868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868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571F-2CBE-4E50-9388-157BDF0F5EE9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320" y="1268280"/>
            <a:ext cx="8991360" cy="500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2440" y="187200"/>
            <a:ext cx="42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0000"/>
                </a:solidFill>
                <a:latin typeface="Times New Roman"/>
              </a:rPr>
              <a:t>EXOTIC NUCL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4BFC-7356-4ED8-A6E8-E6463111B7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4600" y="0"/>
            <a:ext cx="8794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ff0000"/>
                </a:solidFill>
                <a:latin typeface="Times New Roman"/>
              </a:rPr>
              <a:t>EURIS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361F-B248-4A36-B20C-9590E8F8D7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07880" y="34308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utrino mixing matrix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angles and a phas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78320" y="5051520"/>
            <a:ext cx="4562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known or poorly 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after approved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,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2600" y="735120"/>
            <a:ext cx="5175000" cy="3286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264000" y="26780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1000" y="1257480"/>
            <a:ext cx="863640" cy="0"/>
          </a:xfrm>
          <a:prstGeom prst="line">
            <a:avLst/>
          </a:prstGeom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31000" y="2146320"/>
            <a:ext cx="86364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31000" y="2247840"/>
            <a:ext cx="863640" cy="0"/>
          </a:xfrm>
          <a:prstGeom prst="line">
            <a:avLst/>
          </a:prstGeom>
          <a:ln w="41400">
            <a:solidFill>
              <a:srgbClr val="ff0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08760" y="1231920"/>
            <a:ext cx="1800" cy="876240"/>
          </a:xfrm>
          <a:custGeom>
            <a:avLst/>
            <a:gdLst/>
            <a:ahLst/>
            <a:rect l="l" t="t" r="r" b="b"/>
            <a:pathLst>
              <a:path w="1" h="552">
                <a:moveTo>
                  <a:pt x="0" y="0"/>
                </a:moveTo>
                <a:lnTo>
                  <a:pt x="1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8760" y="209556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74720" y="1442880"/>
            <a:ext cx="14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71040" y="2039760"/>
            <a:ext cx="214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1.5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4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31000" y="4229280"/>
            <a:ext cx="863640" cy="0"/>
          </a:xfrm>
          <a:prstGeom prst="line">
            <a:avLst/>
          </a:prstGeom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1000" y="3352680"/>
            <a:ext cx="86364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31000" y="3479760"/>
            <a:ext cx="863640" cy="0"/>
          </a:xfrm>
          <a:prstGeom prst="line">
            <a:avLst/>
          </a:prstGeom>
          <a:ln w="41400">
            <a:solidFill>
              <a:srgbClr val="ff0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7320" y="200484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4720" y="181440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97632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35480" y="32367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22880" y="303372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1040" y="389736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80" y="3981600"/>
            <a:ext cx="5186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tmospheric) = 4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olar) = 3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Chooz) &lt; 1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048280"/>
            <a:ext cx="4314960" cy="180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94240" y="57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78960" y="3284640"/>
            <a:ext cx="214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1.5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4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1040" y="3830760"/>
            <a:ext cx="14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96160" y="3467160"/>
            <a:ext cx="1440" cy="749160"/>
          </a:xfrm>
          <a:custGeom>
            <a:avLst/>
            <a:gdLst/>
            <a:ahLst/>
            <a:rect l="l" t="t" r="r" b="b"/>
            <a:pathLst>
              <a:path w="1" h="472">
                <a:moveTo>
                  <a:pt x="0" y="0"/>
                </a:moveTo>
                <a:lnTo>
                  <a:pt x="0" y="4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6160" y="3301920"/>
            <a:ext cx="1440" cy="17784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1" y="1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D28A-CD28-4E8F-8751-DAC32C8392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374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39080" y="3949560"/>
            <a:ext cx="196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ff6600"/>
                </a:solidFill>
                <a:latin typeface="Times New Roman"/>
              </a:rPr>
              <a:t>C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181480" y="4470480"/>
            <a:ext cx="3530880" cy="1440"/>
          </a:xfrm>
          <a:custGeom>
            <a:avLst/>
            <a:gdLst/>
            <a:ahLst/>
            <a:rect l="l" t="t" r="r" b="b"/>
            <a:pathLst>
              <a:path w="2224" h="1">
                <a:moveTo>
                  <a:pt x="0" y="0"/>
                </a:moveTo>
                <a:lnTo>
                  <a:pt x="2224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8080" y="4467240"/>
            <a:ext cx="272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</a:t>
            </a:r>
            <a:r>
              <a:rPr b="1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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solar ter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9440" y="4008600"/>
            <a:ext cx="356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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/4E)   s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4240" y="5100480"/>
            <a:ext cx="896040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large value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LMA) but *not* large si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APPEARANCE  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0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time reversal symmetric (reactors or sun are 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1800" spc="-1" strike="noStrike">
                <a:solidFill>
                  <a:srgbClr val="ff031e"/>
                </a:solidFill>
                <a:latin typeface="Times New Roman"/>
              </a:rPr>
              <a:t>larg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30%) for suppressed channel (one small angle vs two lar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wavelength at which ‘solar’ (S)= ‘atmospheric’ (A) and fo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66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66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66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ymmetry is opposite fo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66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cc66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66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00ff99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840" y="4483080"/>
            <a:ext cx="3073320" cy="1440"/>
          </a:xfrm>
          <a:custGeom>
            <a:avLst/>
            <a:gdLst/>
            <a:ahLst/>
            <a:rect l="l" t="t" r="r" b="b"/>
            <a:pathLst>
              <a:path w="1936" h="1">
                <a:moveTo>
                  <a:pt x="0" y="0"/>
                </a:moveTo>
                <a:lnTo>
                  <a:pt x="193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8240" y="3879720"/>
            <a:ext cx="27882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-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5160" y="4514760"/>
            <a:ext cx="2935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0440" y="4013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4720" y="4013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4160" y="463536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82880" y="463536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41280" y="773280"/>
            <a:ext cx="2229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89000" y="-165240"/>
            <a:ext cx="9434520" cy="425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¦A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¦S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 A S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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¦A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¦S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2 A S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ar’ (S)  --  ‘Atmospheric’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1727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17398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7E05-3BD9-4C56-B9EE-B755555256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39384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- Neutrino Factory -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RN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4280" y="851040"/>
            <a:ext cx="7772400" cy="544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41880" y="4440240"/>
            <a:ext cx="160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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41781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33680" y="4775040"/>
            <a:ext cx="787320" cy="36864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4863960"/>
            <a:ext cx="520920" cy="45720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46280" y="5332320"/>
            <a:ext cx="947520" cy="58140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ivi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51240" y="5202360"/>
            <a:ext cx="2492640" cy="9543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scillate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s giving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ONG SIGN MU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13516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08120" y="2903400"/>
            <a:ext cx="28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2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4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=1.2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9640" y="5138640"/>
            <a:ext cx="1606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1160" y="4224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9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1D58-594D-4686-B86B-78BEE5E18C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UPERBeam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7000" y="1459080"/>
            <a:ext cx="21189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0 Me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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ll contamination from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(no K at 2 GeV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078520"/>
            <a:ext cx="5959440" cy="1129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large underground water Cerenkov (400 kto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O/HyperK is best ch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so : proton decay search, supernovae events solar and atmospheric neutr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3480" y="11268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sible step 0: Neutrino SUPERB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7360" y="425304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éjus underground l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B144-B8B1-4130-92D4-DCD07E0AF4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: SPL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j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688000" cy="540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18579000">
            <a:off x="542880" y="26359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en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0600" y="58737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2997360"/>
            <a:ext cx="1368720" cy="3240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4000200">
            <a:off x="1355400" y="428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13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36960" y="1125360"/>
            <a:ext cx="4738680" cy="2998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4" name=""/>
          <p:cNvSpPr/>
          <p:nvPr/>
        </p:nvSpPr>
        <p:spPr>
          <a:xfrm flipH="1">
            <a:off x="1547640" y="1106640"/>
            <a:ext cx="2324160" cy="18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068640"/>
            <a:ext cx="231624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4400" y="5661000"/>
            <a:ext cx="162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40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400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79560" y="1122480"/>
            <a:ext cx="1334520" cy="58140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95000" y="4195800"/>
            <a:ext cx="3727080" cy="1313640"/>
          </a:xfrm>
          <a:prstGeom prst="rect">
            <a:avLst/>
          </a:prstGeom>
          <a:solidFill>
            <a:srgbClr val="ccff33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 @ C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GeV, 50Hz, 2.3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u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under R&amp;D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9C5C-45BC-4BE4-B796-D7405CF69E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7:30:21Z</dcterms:created>
  <dc:creator>Alain Blondel</dc:creator>
  <dc:description/>
  <dc:language>en-US</dc:language>
  <cp:lastModifiedBy>bdl</cp:lastModifiedBy>
  <cp:lastPrinted>2001-11-08T10:22:42Z</cp:lastPrinted>
  <dcterms:modified xsi:type="dcterms:W3CDTF">2003-03-22T00:18:47Z</dcterms:modified>
  <cp:revision>152</cp:revision>
  <dc:subject/>
  <dc:title>Neutrino Physics</dc:title>
</cp:coreProperties>
</file>